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FE6-1728-4707-BBFE-3260C205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B6C-D7E0-4500-8481-B2242B1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2FC-D341-4274-A018-C894E673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9EF-C422-4F41-AB1A-4E35A44D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5C6-AF5D-4BA6-8D5C-39197ED5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747-33C3-4B10-A79E-603B3C89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DB5-E189-4264-BAEC-71CC7A35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A83-E912-49E4-B6E5-F7BEFA91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B93-4DD2-4530-A84E-51609315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1A8-E94B-4A54-A114-AEFFEC98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016-77D7-49D5-8215-F3CCAF59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658-94CB-4ABE-BE17-A03C536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B35-AC7F-429A-93C2-5B0780D32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-value for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-Sided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16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010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029040"/>
            <a:ext cx="7467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752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Two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3105000"/>
            <a:ext cx="7391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27Z</dcterms:modified>
  <cp:revision>41</cp:revision>
  <dc:subject/>
  <dc:title>PowerPoint Presentation</dc:title>
</cp:coreProperties>
</file>